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F75-E8DF-4A87-A8D1-0426BB05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53A-A3DF-4725-8B54-FD40CFCD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4DF-1FF5-4045-9535-346C6164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6AE-9840-4D88-8B95-40B4DFD8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77D-01F1-4B0F-B16E-E12D5308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DC0-5F91-4066-9691-9ECB94F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BE0-7C51-4F64-A0E0-5B73C0E3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010-378A-4C3C-9365-7CA90A66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8BD-E513-4A18-A996-3DBD2995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FBF-F0C2-4895-87F0-4071865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18D-30F1-4A32-94BC-EA9D4081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C21-8C81-4865-A1CA-4E041D4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2785-D794-4609-B6E3-4C1E0DF12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Z Test for R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rom 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hort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8672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06704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696080" y="4114800"/>
            <a:ext cx="533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124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162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77240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772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27636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336920" y="3200400"/>
            <a:ext cx="412128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flipH="1" rot="10800000">
            <a:off x="4267080" y="3886200"/>
            <a:ext cx="3049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flipH="1" rot="10800000">
            <a:off x="8381880" y="533160"/>
            <a:ext cx="457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914400" y="4419720"/>
            <a:ext cx="457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360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1187280"/>
            <a:ext cx="5943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04:23:59Z</dcterms:modified>
  <cp:revision>42</cp:revision>
  <dc:subject/>
  <dc:title>PowerPoint Presentation</dc:title>
</cp:coreProperties>
</file>